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F165-6645-47C8-AF3A-61192AA92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E9A5-5889-40B3-8E4E-979AD2BA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03D-7989-45F6-880B-42ABBD33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21A-2BE3-4B38-9B4D-9325C282C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17E2-575E-4714-A4FE-C3BC47038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23B89-E4C5-41C1-9191-693900BF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56CB7-6DAC-4BBD-9857-802C636B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277A2-F7FE-4D83-A618-5954F2858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DDFC-4EAD-4714-9722-6C960234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CA244-0636-4ED4-A67C-1371A49D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9022-8795-4AC9-B61E-D18C4F52C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B327-4FBF-4E1E-A571-65673AF30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C5083-C71A-4DCA-BE93-F4C49BCE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4F5AB-18D9-4C99-8225-C7AA2FC08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5606C-2F1B-46AB-BC50-25F257CE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919E-E213-42B9-A2D8-93ACA92BD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FE55-1569-46CD-9949-D3B1366C3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9828-67A2-4F39-8E4C-0655E9F99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14472-D3ED-4660-B71E-E5B77EE6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D9BA-1ADE-46D1-8C80-CC6AC120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FD73-575D-450F-9A59-92CA9246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1F35-7483-4F69-9972-CC5111EE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18C10-00B4-42CD-A22E-23A4201A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93F6-C2D9-407F-934A-EBC82B8B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861D-DFEF-47D4-8CC9-26E9BBEE09D4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1167-A15F-47AC-88C7-F2C8B321655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ПРОЕКТ «СТРУКТУРА МУНИЦИПАЛЬНОГО ВНУТРЕННЕГО ДОЛГА НА 2020 ГОД И ПЛАНОВЫЙ ПЕРИОД 2021-2022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30:08Z</dcterms:modified>
  <cp:revision>44</cp:revision>
  <dc:subject/>
  <dc:title>Структура собственных доходов на 2016 год бюджета Дальнереченского городского округа</dc:title>
</cp:coreProperties>
</file>